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50B0-4A4B-49D4-AFF6-14F2426ED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D753-5758-47D2-A416-C094FAF62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A97-7E80-45F6-AD2A-4463E8E5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19B-933F-4BB0-B19D-AA657E4E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99D-FFB9-4440-933A-EDF40A92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BAC-02EE-4AD7-867D-D87327AF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354-C70D-44F8-B3E4-1EBD34B6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ED5-6E2E-4385-99A6-EF809B67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A0F-AFC8-4128-BF98-A87176B6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C03-6D63-4D62-8D17-86667F43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D60-26E7-42A0-8865-F1EDB117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EAE-D1EB-4187-A5AA-420D1955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97D-B94E-45E9-9B39-42DB5A62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B99-1F3C-4581-B9DB-1389A2EE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4DB7-5798-4F03-B2CF-FFB02CC7E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jpe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9.jpe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pc.maricopa.edu/Biology/ppepe/au/aupics/Hardy%20Reef%20th.jpg"/>
          <p:cNvPicPr/>
          <p:nvPr/>
        </p:nvPicPr>
        <p:blipFill>
          <a:blip r:embed="rId1"/>
          <a:stretch/>
        </p:blipFill>
        <p:spPr>
          <a:xfrm>
            <a:off x="0" y="0"/>
            <a:ext cx="449568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www.photolib.noaa.gov/bigs/reef4185.jpg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nagt.org/images/eslabs/corals/brain_coral_200.jpg"/>
          <p:cNvPicPr/>
          <p:nvPr/>
        </p:nvPicPr>
        <p:blipFill>
          <a:blip r:embed="rId3"/>
          <a:stretch/>
        </p:blipFill>
        <p:spPr>
          <a:xfrm>
            <a:off x="0" y="38098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www.bsac.com/core/core_picker/loadimg.asp?id=10033"/>
          <p:cNvPicPr/>
          <p:nvPr/>
        </p:nvPicPr>
        <p:blipFill>
          <a:blip r:embed="rId4"/>
          <a:stretch/>
        </p:blipFill>
        <p:spPr>
          <a:xfrm>
            <a:off x="6934320" y="3809880"/>
            <a:ext cx="220968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www.fundrefuges.org/new-images/sea_fan.jpg"/>
          <p:cNvPicPr/>
          <p:nvPr/>
        </p:nvPicPr>
        <p:blipFill>
          <a:blip r:embed="rId5"/>
          <a:stretch/>
        </p:blipFill>
        <p:spPr>
          <a:xfrm>
            <a:off x="4495680" y="3809880"/>
            <a:ext cx="2438640" cy="3048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3200400" y="32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hat are the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Scientists descending to a coral reef carrying underwater clipboards for note taking.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photos.mongabay.com/07/0718bleached-coral.jpg"/>
          <p:cNvPicPr/>
          <p:nvPr/>
        </p:nvPicPr>
        <p:blipFill>
          <a:blip r:embed="rId1"/>
          <a:stretch/>
        </p:blipFill>
        <p:spPr>
          <a:xfrm>
            <a:off x="0" y="914400"/>
            <a:ext cx="5791320" cy="5562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533520" y="304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 happened to this organism? Wh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http://www.sail-world.com/photos/std_Earth%20bleached%20coral%20reef.jpg"/>
          <p:cNvPicPr/>
          <p:nvPr/>
        </p:nvPicPr>
        <p:blipFill>
          <a:blip r:embed="rId2"/>
          <a:stretch/>
        </p:blipFill>
        <p:spPr>
          <a:xfrm>
            <a:off x="5867280" y="1143000"/>
            <a:ext cx="2819520" cy="51055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 flipH="1">
            <a:off x="6628680" y="457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thi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rds.yahoo.com/_ylt=A0WTefOaDWpLpQ0AJ6SjzbkF/SIG=13s7grn13/EXP=1265327898/**http%3a/www.goparoo.com/south-america/attractions/amazon-rainforest/images/amazon-tropical-rainforest.jpg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rds.yahoo.com/_ylt=A0WTefXoDWpLG3QAnCKjzbkF/SIG=12ji73ej0/EXP=1265327976/**http%3a/www.jerryvandyke.com/images/journeys/120103408100493.jpg"/>
          <p:cNvPicPr/>
          <p:nvPr/>
        </p:nvPicPr>
        <p:blipFill>
          <a:blip r:embed="rId2"/>
          <a:stretch/>
        </p:blipFill>
        <p:spPr>
          <a:xfrm>
            <a:off x="3905280" y="3876840"/>
            <a:ext cx="5238720" cy="2981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4572000" y="9907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correlation exists between the tw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3880" y="3246480"/>
          <a:ext cx="6096240" cy="365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23" descr="Turtle, Yongala, Australia"/>
          <p:cNvPicPr/>
          <p:nvPr/>
        </p:nvPicPr>
        <p:blipFill>
          <a:blip r:embed="rId1"/>
          <a:stretch/>
        </p:blipFill>
        <p:spPr>
          <a:xfrm>
            <a:off x="0" y="0"/>
            <a:ext cx="472428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6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6" descr="http://www.assoc-amazon.co.uk/e/ir?l=pv3&amp;t=1286&amp;o=2"/>
          <p:cNvPicPr/>
          <p:nvPr/>
        </p:nvPicPr>
        <p:blipFill>
          <a:blip r:embed="rId2"/>
          <a:stretch/>
        </p:blipFill>
        <p:spPr>
          <a:xfrm>
            <a:off x="4681440" y="19836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http://www.assoc-amazon.co.uk/e/ir?t=1286&amp;l=as3&amp;o=2&amp;creative=9298&amp;camp=2506&amp;i=1"/>
          <p:cNvPicPr/>
          <p:nvPr/>
        </p:nvPicPr>
        <p:blipFill>
          <a:blip r:embed="rId3"/>
          <a:stretch/>
        </p:blipFill>
        <p:spPr>
          <a:xfrm>
            <a:off x="4710240" y="198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http://www.assoc-amazon.co.uk/e/ir?o=2&amp;amp;t=1286&amp;amp;l=em1&amp;amp;a=1853107840&amp;amp;creative=11114"/>
          <p:cNvPicPr/>
          <p:nvPr/>
        </p:nvPicPr>
        <p:blipFill>
          <a:blip r:embed="rId4"/>
          <a:stretch/>
        </p:blipFill>
        <p:spPr>
          <a:xfrm>
            <a:off x="4773600" y="198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1" descr="http://cls.assoc-amazon.co.uk/e/lr?&amp;amp;t=1286&amp;amp;ls=1&amp;amp;al=1"/>
          <p:cNvPicPr/>
          <p:nvPr/>
        </p:nvPicPr>
        <p:blipFill>
          <a:blip r:embed="rId5"/>
          <a:stretch/>
        </p:blipFill>
        <p:spPr>
          <a:xfrm>
            <a:off x="4556160" y="3967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http://cl.assoc-amazon.co.uk/d/?PublisherID=1286&amp;URL=http%3A//www.scubatravel.co.uk/turtleausyongala.html&amp;ResponseCount=9&amp;MarketPlace=GB&amp;ExactMatch=false&amp;CategoryRestriction=Books&amp;Browser=Microsoft%20Internet%20Explorer&amp;Service=LinkFBService&amp;Screen=897X322&amp;Pos=491X753&amp;Kwd=Australia"/>
          <p:cNvPicPr/>
          <p:nvPr/>
        </p:nvPicPr>
        <p:blipFill>
          <a:blip r:embed="rId6"/>
          <a:stretch/>
        </p:blipFill>
        <p:spPr>
          <a:xfrm>
            <a:off x="4584600" y="3967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3" descr="http://www.assoc-amazon.co.uk/e/ir?t=phot-21&amp;l=ur2&amp;o=2"/>
          <p:cNvPicPr/>
          <p:nvPr/>
        </p:nvPicPr>
        <p:blipFill>
          <a:blip r:embed="rId7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3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3" descr="http://www.assoc-amazon.co.uk/e/ir?l=pv3&amp;t=1286&amp;o=2"/>
          <p:cNvPicPr/>
          <p:nvPr/>
        </p:nvPicPr>
        <p:blipFill>
          <a:blip r:embed="rId8"/>
          <a:stretch/>
        </p:blipFill>
        <p:spPr>
          <a:xfrm>
            <a:off x="34308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4" descr="http://www.assoc-amazon.co.uk/e/ir?t=1286&amp;l=as3&amp;o=2&amp;creative=9298&amp;camp=2506&amp;i=1"/>
          <p:cNvPicPr/>
          <p:nvPr/>
        </p:nvPicPr>
        <p:blipFill>
          <a:blip r:embed="rId9"/>
          <a:stretch/>
        </p:blipFill>
        <p:spPr>
          <a:xfrm>
            <a:off x="37152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5" descr="http://www.assoc-amazon.com/e/ir?l=pv3&amp;t=mussoutdoorpursu&amp;o=1"/>
          <p:cNvPicPr/>
          <p:nvPr/>
        </p:nvPicPr>
        <p:blipFill>
          <a:blip r:embed="rId10"/>
          <a:stretch/>
        </p:blipFill>
        <p:spPr>
          <a:xfrm>
            <a:off x="403200" y="-30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6" descr="http://www.assoc-amazon.com/e/ir?t=mussoutdoorpursu&amp;l=as2&amp;o=1&amp;creative=9310&amp;camp=2506&amp;i=1"/>
          <p:cNvPicPr/>
          <p:nvPr/>
        </p:nvPicPr>
        <p:blipFill>
          <a:blip r:embed="rId11"/>
          <a:stretch/>
        </p:blipFill>
        <p:spPr>
          <a:xfrm>
            <a:off x="434880" y="-30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9" descr="http://www.assoc-amazon.co.uk/e/ir?o=2&amp;amp;t=1286&amp;amp;l=em1&amp;amp;a=1898162719&amp;amp;creative=11114"/>
          <p:cNvPicPr/>
          <p:nvPr/>
        </p:nvPicPr>
        <p:blipFill>
          <a:blip r:embed="rId12"/>
          <a:stretch/>
        </p:blipFill>
        <p:spPr>
          <a:xfrm>
            <a:off x="49860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0" descr="http://www.assoc-amazon.co.uk/e/ir?o=2&amp;amp;t=1286&amp;amp;l=em1&amp;amp;a=0121681106&amp;amp;creative=11114"/>
          <p:cNvPicPr/>
          <p:nvPr/>
        </p:nvPicPr>
        <p:blipFill>
          <a:blip r:embed="rId13"/>
          <a:stretch/>
        </p:blipFill>
        <p:spPr>
          <a:xfrm>
            <a:off x="53028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1" descr="http://cls.assoc-amazon.co.uk/e/lr?&amp;amp;t=1286&amp;amp;ls=3&amp;amp;al=2"/>
          <p:cNvPicPr/>
          <p:nvPr/>
        </p:nvPicPr>
        <p:blipFill>
          <a:blip r:embed="rId14"/>
          <a:stretch/>
        </p:blipFill>
        <p:spPr>
          <a:xfrm>
            <a:off x="28440" y="1681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2" descr="http://cl.assoc-amazon.co.uk/d/?PublisherID=1286&amp;URL=http%3A//www.scubatravel.co.uk/anemonefish.html&amp;ResponseCount=9&amp;MarketPlace=GB&amp;ExactMatch=false&amp;CategoryRestriction=Books&amp;Browser=Microsoft%20Internet%20Explorer&amp;Service=LinkFBService&amp;Screen=897X322&amp;Pos=512X1125&amp;Kwd=air%20bubbles"/>
          <p:cNvPicPr/>
          <p:nvPr/>
        </p:nvPicPr>
        <p:blipFill>
          <a:blip r:embed="rId15"/>
          <a:stretch/>
        </p:blipFill>
        <p:spPr>
          <a:xfrm>
            <a:off x="57240" y="1681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3" descr="http://www.assoc-amazon.co.uk/e/ir?t=phot-21&amp;l=ur2&amp;o=2"/>
          <p:cNvPicPr/>
          <p:nvPr/>
        </p:nvPicPr>
        <p:blipFill>
          <a:blip r:embed="rId16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5" descr="Two-Banded Clownfish"/>
          <p:cNvPicPr/>
          <p:nvPr/>
        </p:nvPicPr>
        <p:blipFill>
          <a:blip r:embed="rId17"/>
          <a:stretch/>
        </p:blipFill>
        <p:spPr>
          <a:xfrm>
            <a:off x="4724280" y="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3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3" descr="http://www.assoc-amazon.co.uk/e/ir?l=pv3&amp;t=1286&amp;o=2"/>
          <p:cNvPicPr/>
          <p:nvPr/>
        </p:nvPicPr>
        <p:blipFill>
          <a:blip r:embed="rId18"/>
          <a:stretch/>
        </p:blipFill>
        <p:spPr>
          <a:xfrm>
            <a:off x="34308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4" descr="http://www.assoc-amazon.co.uk/e/ir?t=1286&amp;l=as3&amp;o=2&amp;creative=9298&amp;camp=2506&amp;i=1"/>
          <p:cNvPicPr/>
          <p:nvPr/>
        </p:nvPicPr>
        <p:blipFill>
          <a:blip r:embed="rId19"/>
          <a:stretch/>
        </p:blipFill>
        <p:spPr>
          <a:xfrm>
            <a:off x="37152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5" descr="http://www.assoc-amazon.com/e/ir?l=pv3&amp;t=mussoutdoorpursu&amp;o=1"/>
          <p:cNvPicPr/>
          <p:nvPr/>
        </p:nvPicPr>
        <p:blipFill>
          <a:blip r:embed="rId20"/>
          <a:stretch/>
        </p:blipFill>
        <p:spPr>
          <a:xfrm>
            <a:off x="403200" y="-30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6" descr="http://www.assoc-amazon.com/e/ir?t=mussoutdoorpursu&amp;l=as2&amp;o=1&amp;creative=9310&amp;camp=2506&amp;i=1"/>
          <p:cNvPicPr/>
          <p:nvPr/>
        </p:nvPicPr>
        <p:blipFill>
          <a:blip r:embed="rId21"/>
          <a:stretch/>
        </p:blipFill>
        <p:spPr>
          <a:xfrm>
            <a:off x="434880" y="-30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9" descr="http://www.assoc-amazon.co.uk/e/ir?o=2&amp;amp;t=1286&amp;amp;l=em1&amp;amp;a=1898162719&amp;amp;creative=11114"/>
          <p:cNvPicPr/>
          <p:nvPr/>
        </p:nvPicPr>
        <p:blipFill>
          <a:blip r:embed="rId22"/>
          <a:stretch/>
        </p:blipFill>
        <p:spPr>
          <a:xfrm>
            <a:off x="49860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0" descr="http://www.assoc-amazon.co.uk/e/ir?o=2&amp;amp;t=1286&amp;amp;l=em1&amp;amp;a=0121681106&amp;amp;creative=11114"/>
          <p:cNvPicPr/>
          <p:nvPr/>
        </p:nvPicPr>
        <p:blipFill>
          <a:blip r:embed="rId23"/>
          <a:stretch/>
        </p:blipFill>
        <p:spPr>
          <a:xfrm>
            <a:off x="530280" y="-302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1" descr="http://cls.assoc-amazon.co.uk/e/lr?&amp;amp;t=1286&amp;amp;ls=3&amp;amp;al=2"/>
          <p:cNvPicPr/>
          <p:nvPr/>
        </p:nvPicPr>
        <p:blipFill>
          <a:blip r:embed="rId24"/>
          <a:stretch/>
        </p:blipFill>
        <p:spPr>
          <a:xfrm>
            <a:off x="28440" y="1681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2" descr="http://cl.assoc-amazon.co.uk/d/?PublisherID=1286&amp;URL=http%3A//www.scubatravel.co.uk/anemonefish.html&amp;ResponseCount=9&amp;MarketPlace=GB&amp;ExactMatch=false&amp;CategoryRestriction=Books&amp;Browser=Microsoft%20Internet%20Explorer&amp;Service=LinkFBService&amp;Screen=897X322&amp;Pos=512X1125&amp;Kwd=air%20bubbles"/>
          <p:cNvPicPr/>
          <p:nvPr/>
        </p:nvPicPr>
        <p:blipFill>
          <a:blip r:embed="rId25"/>
          <a:stretch/>
        </p:blipFill>
        <p:spPr>
          <a:xfrm>
            <a:off x="57240" y="1681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4" descr="http://www.coral.org/files/images/1673-bluestar.jpeg"/>
          <p:cNvPicPr/>
          <p:nvPr/>
        </p:nvPicPr>
        <p:blipFill>
          <a:blip r:embed="rId26"/>
          <a:stretch/>
        </p:blipFill>
        <p:spPr>
          <a:xfrm>
            <a:off x="0" y="3429000"/>
            <a:ext cx="471312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8" descr="http://rrimg.aroundrr.com/Animals/l_sharkblue.gif"/>
          <p:cNvPicPr/>
          <p:nvPr/>
        </p:nvPicPr>
        <p:blipFill>
          <a:blip r:embed="rId27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0"/>
          <p:cNvSpPr/>
          <p:nvPr/>
        </p:nvSpPr>
        <p:spPr>
          <a:xfrm flipH="1">
            <a:off x="2438280" y="3048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se affect the habit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icran.org/I/people/coral.jpg"/>
          <p:cNvPicPr/>
          <p:nvPr/>
        </p:nvPicPr>
        <p:blipFill>
          <a:blip r:embed="rId1"/>
          <a:stretch/>
        </p:blipFill>
        <p:spPr>
          <a:xfrm>
            <a:off x="0" y="609480"/>
            <a:ext cx="495288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4" descr="http://www.nevillecoleman.com.au/media/127560/sponges%20albanywa.jpg"/>
          <p:cNvPicPr/>
          <p:nvPr/>
        </p:nvPicPr>
        <p:blipFill>
          <a:blip r:embed="rId2"/>
          <a:stretch/>
        </p:blipFill>
        <p:spPr>
          <a:xfrm>
            <a:off x="0" y="3809880"/>
            <a:ext cx="495288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deepseaimages.com/dsilibrary/data/1394/2005-08-21-11-33-34.jpg"/>
          <p:cNvPicPr/>
          <p:nvPr/>
        </p:nvPicPr>
        <p:blipFill>
          <a:blip r:embed="rId3"/>
          <a:stretch/>
        </p:blipFill>
        <p:spPr>
          <a:xfrm>
            <a:off x="4952880" y="609480"/>
            <a:ext cx="4191120" cy="6248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362320" y="1522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 these organisms fit into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733920" y="99072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oyanc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he force or upthrust that assists in supporting the weight of an organis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scos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he resistance to movement of the medium - in this case, the seawa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mperature vari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of lesser extremes as compared to land habit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ght Penetr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to only the first 20 metres or so from the ocean surface. Red light gets absorbed first by the water and blue light penetrates the farthe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l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giving marine waters a high concentration of salts in solution with 3.5% being the average salt content in seawa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ses in solu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less oxygen is dissolved in seawater as compared to a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the Water – which increases with depth, due to the weight of water abo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www.emc.cmich.edu/sunsafety/sun-for-web.gif"/>
          <p:cNvPicPr/>
          <p:nvPr/>
        </p:nvPicPr>
        <p:blipFill>
          <a:blip r:embed="rId1"/>
          <a:stretch/>
        </p:blipFill>
        <p:spPr>
          <a:xfrm>
            <a:off x="0" y="0"/>
            <a:ext cx="3181320" cy="365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valdosta.edu/~srcrook/thermometer.jpg"/>
          <p:cNvPicPr/>
          <p:nvPr/>
        </p:nvPicPr>
        <p:blipFill>
          <a:blip r:embed="rId2"/>
          <a:stretch/>
        </p:blipFill>
        <p:spPr>
          <a:xfrm>
            <a:off x="8153280" y="1905120"/>
            <a:ext cx="99072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kcillini77.files.wordpress.com/2007/11/morton_salt.jpg"/>
          <p:cNvPicPr/>
          <p:nvPr/>
        </p:nvPicPr>
        <p:blipFill>
          <a:blip r:embed="rId3"/>
          <a:stretch/>
        </p:blipFill>
        <p:spPr>
          <a:xfrm>
            <a:off x="0" y="3505320"/>
            <a:ext cx="3162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nagt.org/images/eslabs/corals/coral_reef_distribution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2" descr=""/>
          <p:cNvPicPr/>
          <p:nvPr/>
        </p:nvPicPr>
        <p:blipFill>
          <a:blip r:embed="rId2"/>
          <a:stretch/>
        </p:blipFill>
        <p:spPr>
          <a:xfrm>
            <a:off x="2554200" y="96840"/>
            <a:ext cx="463680" cy="514044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3" descr=""/>
          <p:cNvPicPr/>
          <p:nvPr/>
        </p:nvPicPr>
        <p:blipFill>
          <a:blip r:embed="rId3"/>
          <a:stretch/>
        </p:blipFill>
        <p:spPr>
          <a:xfrm>
            <a:off x="-6480" y="-60480"/>
            <a:ext cx="915696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coris.noaa.gov/about/biology/zooxanthellae_186.jpg"/>
          <p:cNvPicPr/>
          <p:nvPr/>
        </p:nvPicPr>
        <p:blipFill>
          <a:blip r:embed="rId1"/>
          <a:stretch/>
        </p:blipFill>
        <p:spPr>
          <a:xfrm>
            <a:off x="-244440" y="1176480"/>
            <a:ext cx="4371840" cy="5967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 flipH="1">
            <a:off x="380880" y="609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943600" y="609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http://www.aquariauk.com/images3/coral2.jpg"/>
          <p:cNvPicPr/>
          <p:nvPr/>
        </p:nvPicPr>
        <p:blipFill>
          <a:blip r:embed="rId2"/>
          <a:stretch/>
        </p:blipFill>
        <p:spPr>
          <a:xfrm>
            <a:off x="3886200" y="1371600"/>
            <a:ext cx="525780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comeseeegypt.com/images/redsea/coral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3048120" y="32004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fe in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eoearth.org/upload/thumb/a/a6/Crown_of_thorn_sea_star.jpg/250px-Crown_of_thorn_sea_star.jpg"/>
          <p:cNvPicPr/>
          <p:nvPr/>
        </p:nvPicPr>
        <p:blipFill>
          <a:blip r:embed="rId1"/>
          <a:stretch/>
        </p:blipFill>
        <p:spPr>
          <a:xfrm>
            <a:off x="609480" y="1295280"/>
            <a:ext cx="6553440" cy="44960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es this organism affect the marine communit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besttouristdestinations.com/wp-content/uploads/2009/03/gold-coast-australia-300x245.jpg"/>
          <p:cNvPicPr/>
          <p:nvPr/>
        </p:nvPicPr>
        <p:blipFill>
          <a:blip r:embed="rId1"/>
          <a:stretch/>
        </p:blipFill>
        <p:spPr>
          <a:xfrm>
            <a:off x="0" y="0"/>
            <a:ext cx="5029200" cy="7010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5715000" y="91440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importan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9:24:09Z</dcterms:created>
  <dc:creator>Sussmrtme</dc:creator>
  <dc:description/>
  <dc:language>en-US</dc:language>
  <cp:lastModifiedBy>tFrankie</cp:lastModifiedBy>
  <dcterms:modified xsi:type="dcterms:W3CDTF">2010-02-04T15:01:24Z</dcterms:modified>
  <cp:revision>29</cp:revision>
  <dc:subject/>
  <dc:title>Slide 1</dc:title>
</cp:coreProperties>
</file>